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8406-58DF-4416-9D32-8BC482F8A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4DD5-7AF0-4194-88F5-619AC3F17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9B38-5936-45C5-B8AE-948DD464B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7F92-E514-4485-A920-DC3615048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0A03-BAED-4DFB-A715-FCEB5E89A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D029-9DC4-497B-AFCE-FEAEB015F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53D1-FA05-4F00-8B57-F748F2FED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6B9-3E3D-40F2-94C5-2E706B0A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672-F92D-4334-AF07-28A980CC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9C69-CD82-4745-B2C2-4DE4CD6C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366-3697-49A1-AE37-3C64D1CF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0AA-1E64-4CA0-BA21-889E8285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DF0D-C307-44A4-8D00-BE615B99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758-E999-44A6-A4B8-A30EBC25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BA2-46B2-4EF9-B4D6-42ECEB9D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596-F68F-4958-84C6-B1A79CF3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BE0A-B483-4C77-913A-CB32CFEE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673-ACAC-422F-B644-2D074B61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134-3CCE-42C2-BC9A-8162E4D4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47F7-D847-494F-87C0-893C93718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4360" y="5589720"/>
            <a:ext cx="4529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оф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. др Владимир Живк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28060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2268360" y="17733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ДУЛ 1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И СПОРТСКЕ ФАРМАЦИЈ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324000" y="2924280"/>
            <a:ext cx="828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 наставна јединица (трећ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АРМАЦЕУТИ У СПОРТУ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тупци у раду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антидопинг лабораторије -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06028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ступак избора спортисте и сакупљања узорака строго су контролисани од стране одговорне антидопинг организ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 тестирање током такмичења спортисти се бирају на основ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пласмана на такмичењ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насум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циља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 тестирање изван такмичења спортисти се мора најавити узимање узорака за тестир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вака национална антидопинг агенција је у обавези да припреми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листу врхунских спортиста за тестир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тупци у раду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антидопинг лабораторије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06028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зимање узорака као и даља процедура транспорта, анализе и припреме извештаја се спроводе по строго дефинисаном протокол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анспорт узорака до лабораторије се мора обавити у што краћем року и то тако да се обезбеде интегритет, идентитет и безбедност узора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 случају позитивног резултата потребно је да две особе независно једна од друге понове анализу пре писања извештаја и обавештавања надлежне антидопинг аген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нтидопинг агенција обавештава спортисту о резултату те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лога аналитике лекова у допинг контро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06028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Једна од основних улоге аналитике лекова у допинг контроли је развој метода које ће омогућити добијање прецизног и тачног резултата из узорка који се анализи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узданост резултата је у директној вези са примењеном инструменталном методом и зависи од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добро познавање природе анали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познавање матрикса који се анализи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искуство у примени мето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тежавајући фактор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често се ради о анализи трагова супстанц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неке од супстанци које се злоупотребљавају се физиолошки налазе у организму (пример: 19-нортестостеро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тупци аналитике лекова у допинг контроли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осетљивост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184428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ступак који се користи у откривању допинг средства мора да буде високо селективан и осетљив услед следећих разлог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орци који се анализирају (крв и урин) су сложеног саст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лизиране супстанце су различитих физичко-хемијских особ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премине узорака су ограниче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лиза се мора урадити у веома кратком временском период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(у року од 24 до 48 сат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3924360" y="4508640"/>
            <a:ext cx="30970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тупци аналитике лекова у допинг контроли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фазе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206028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ема препоруци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WADA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поступак у антидопинг лабораторији се изводе у 2 фазе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WADA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фаза: скрининг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– детекција највећег броја тражених супстанци у сложеном матриксу (урину / крв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Одлик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ургент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селективност и осетљив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одсуство лажно негативних резулт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минимум присуства лажно поитивних резултата (до 1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Ова фаза обезбеђује информацију о присуству/одсуству допинг сре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тупци аналитике лекова у допинг контроли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фазе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06028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фаза: одређивање садржаја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исутног допинг сре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амо одређене супстанце са Листе забрањених супстанци захтевају одређивање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(сматрају се допинг средством само када открију изнад одређене концентрације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- салбутамол, формотерол (бронходилататор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- ефедрин, метилефедрин, псеудоефедрин и катин (психостимуланс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вантитативна анализа је потребна и онда када је висок ниво ендогених супстанци (нпр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стостерона и његових прекурсора и метаболи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ипрема узорака за откривање допинг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920" y="206028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ипрема узорака подразумева употребу метода чији је циљ да се из сложеног биолошког матрикса издвоји пречишћен анал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јчешће метод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течно-течна екстракција (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Liquid Liquid Extraction, LLE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чврсто-течна екстракција (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Solid Phase Extraction, SPE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преципитација протеина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 (Protein Precipitation, P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Ð ÐµÐ·ÑÐ»ÑÐ°Ñ ÑÐ»Ð¸ÐºÐ° Ð·Ð° Liquid Liquid Extraction, LLE"/>
          <p:cNvPicPr/>
          <p:nvPr/>
        </p:nvPicPr>
        <p:blipFill>
          <a:blip r:embed="rId1"/>
          <a:srcRect l="62808" t="20522" r="7577" b="11614"/>
          <a:stretch/>
        </p:blipFill>
        <p:spPr>
          <a:xfrm>
            <a:off x="6732720" y="3068640"/>
            <a:ext cx="1800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етоде за идентификацију допинг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412640"/>
            <a:ext cx="8362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ас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роматограф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регну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се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ектрометриј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as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hromatography Mass Spectrometry – GC/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течн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хроматографиј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прегнут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се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ектрометриј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iquid Chromatography Mass Spectrometry –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LC/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мунолошке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оде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лиза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теина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епти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ње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од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могу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суств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лик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о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аболи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олошких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рке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дентифик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су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брање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Ð ÐµÐ·ÑÐ»ÑÐ°Ñ ÑÐ»Ð¸ÐºÐ° Ð·Ð° gas chromatography mass spectrometry"/>
          <p:cNvPicPr/>
          <p:nvPr/>
        </p:nvPicPr>
        <p:blipFill>
          <a:blip r:embed="rId1"/>
          <a:srcRect l="0" t="5408" r="0" b="0"/>
          <a:stretch/>
        </p:blipFill>
        <p:spPr>
          <a:xfrm>
            <a:off x="4500720" y="4410000"/>
            <a:ext cx="3854160" cy="24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Ð ÐµÐ·ÑÐ»ÑÐ°Ñ ÑÐ»Ð¸ÐºÐ° Ð·Ð° gas chromatography mass spectrometry"/>
          <p:cNvPicPr/>
          <p:nvPr/>
        </p:nvPicPr>
        <p:blipFill>
          <a:blip r:embed="rId2"/>
          <a:stretch/>
        </p:blipFill>
        <p:spPr>
          <a:xfrm>
            <a:off x="1619280" y="4676760"/>
            <a:ext cx="27846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етоде за идентификацију допинг средства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- могући исходи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276640"/>
            <a:ext cx="8362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уп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дла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WADA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дентификације узорк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вод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узорку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учају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гатив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дентификова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су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брање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дај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вешта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уч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јас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циљ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јашњав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ново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д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ли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т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ор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уч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врд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суст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брање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лаз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едећ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з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ој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ш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вантитативн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лиз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ом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ређуј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центра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сут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е (фаза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д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ор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њуј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о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ецифич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дентификова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ави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текци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дентификаци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врд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суст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дозвоље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2060640"/>
            <a:ext cx="8362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циљ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бегав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реша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биј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продуктив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WADA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финиса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имал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хтев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ндард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ак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редитована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идопинг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абораторија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пуни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 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дентифика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ли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узда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пр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ном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Ц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оде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тенционо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лита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орку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рина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исте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е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ликоват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2 %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ј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± 0,1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у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тенцион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т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тереће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ор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р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 референт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ндар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лог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абораторије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рају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ти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аглашене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ти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рло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асн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итеријум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њен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од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исан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Техничком</a:t>
            </a:r>
            <a:r>
              <a:rPr b="0" i="1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документ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СКО-МЕДИЦИНСКИ ТИ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844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ланови спортско-медицинског тим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и 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кар (специјалиста спортске медицин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фармацеу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зиотерапеу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јететичар/нутрицион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енер (спортске тактике и вештин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ндициони трене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рт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дружени и усаглашени рад свих чланова спортско-медицинског тима је неопходан за постизање најбољих резултат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алити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јететск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племен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916280"/>
            <a:ext cx="8362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јететс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аминиран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а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с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звољен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аминаци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ћ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ледиц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акрсн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аминациј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арат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оше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езбеђеног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анспорта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ровин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рад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јететски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мачко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панс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жишт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р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лцију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аминиран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боли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адиено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ултивитаминс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мплек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гнезију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л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аминира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боли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нозолол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су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боли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јететск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ве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зитив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пин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ро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ис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пстанц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413000"/>
            <a:ext cx="8362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WADA j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писал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ист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ритеријум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којим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упстанц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тављ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Листу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упстанци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ћнос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бољш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варн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енцијалн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изик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дрављ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ист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руша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ух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Уколико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ов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три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критеријум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испуњена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упстанц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тављ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Листу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упстан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Пример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болици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стостерон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боличко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дрогени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ероиди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)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ептид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ормо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ритропоет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ормо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с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сул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)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сих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имуланас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мфетам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федр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ка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)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уретиц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ркотиц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набиноиди, глукокортикоид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лог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армацеу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купљањ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зора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700280"/>
            <a:ext cx="8362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дстављ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итич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а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ом допинг контр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уп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купљ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ора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оже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ст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з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бо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ис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авешта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ист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ро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купљ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ора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значав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ор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црвена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тикета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орак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лава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тикета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ора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пре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кумент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рмацеу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говарајућ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у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нинг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им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е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мпетентнос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честву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ко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 фа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в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уп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о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рмацеу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честву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з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мплементаци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цедур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купљањ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ор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4643280" y="3500280"/>
            <a:ext cx="21621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640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порук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лоз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армацеут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рб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тив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пинг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орту</a:t>
            </a:r>
            <a:br>
              <a:rPr sz="2400"/>
            </a:b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(Каиро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628280"/>
            <a:ext cx="83628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ДУЖНОСТИ ДРЖА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дуз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м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фикас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ткрил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речил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легал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набдевањ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ов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итне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луб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ључују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бав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ут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ерне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ст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езбеђивањ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говарајуће финансијске помоћ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WADA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игурај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њен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длежност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зависност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рушт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завис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ционал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идопин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генциј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стећ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луг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абораториј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редитова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ран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К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стирањ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ов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игуравањ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рог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ко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ти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цедур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рол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од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лиз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аглаше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ђународном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во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порук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лоз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армацеут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рб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тив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пинг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орту</a:t>
            </a:r>
            <a:br>
              <a:rPr sz="2400"/>
            </a:b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(Каиро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5280" y="1413000"/>
            <a:ext cx="8362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ДУЖНОСТИ ФАРМАЦЕУТСКИХ ДРУШТА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хтевање 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ционал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ве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о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ист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ст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ове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авежу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авесте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рмацеута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вом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чествовању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им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т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мичењ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чествовањ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мпања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једн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ционални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идопинг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генција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ционалн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лимпијск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митет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говарајућ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ладин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ељењ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дизању све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асност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п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набде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рмацеу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дукативн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теријал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мењеним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истима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асностима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ледицама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п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езбеђи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нов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инуира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разо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рмацеу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ључуј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формаци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а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ода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ст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пинг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изиц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дрављ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езбеђи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теријал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тинуирано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разовање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рмацеута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рж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форма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Кодексу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ветск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антидопинг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аген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порук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лоз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армацеут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рб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тив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пинг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орту</a:t>
            </a:r>
            <a:br>
              <a:rPr sz="2400"/>
            </a:b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(Каиро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69992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u="sng">
                <a:solidFill>
                  <a:srgbClr val="000000"/>
                </a:solidFill>
                <a:uFillTx/>
                <a:latin typeface="Calibri"/>
              </a:rPr>
              <a:t>ДУЖНОСТИ ФАРМАЦЕУ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журно праћење садржа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Кодекс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ветск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антидопинг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агенциј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Лист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допинг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редст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мовисање позитивних ефеката спорта на здрављ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ључују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чеш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и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тивности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обе с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ређеним медицинским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блем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резност 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азликовање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правда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потреб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дозвоље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бијање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набдевања ле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ас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мер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сти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закони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авештавање такмича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ов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р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Лист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упстан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авешта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ав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тивност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ст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јететск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ћ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изиц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з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њиховом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потреб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66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СКО-МЕДИЦИНСКИ ТИ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55700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лога фармацеу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 савременом спорту, последњих година је све уочљивији значај фармацеута у спортско-медицинском ти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лога фармацеу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ођење и контрола фармаколошке терапије спорт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онтрола и примена суплемената код спортис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фармаколошке мере превенције повре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заштита спортиста од злоупотребе лекова и лековитих супстан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мере антидопинг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данас највећи број ових дужности обавља лека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авремени концепт фармацеута у спор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98864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ветодавна и едукативна у превенцији доп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д у контролним лаборатори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авилно дизајнирање диј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имена ле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набдевање леков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аћење и анализа утицаја лекова на биохемијске и хематолошке парамете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24000" y="551664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*Рад у контролним лабораторијама: анализа материјала – сакупљањ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чување и припрема узорака, скрининг тестови, методе за квантитативну и квалитативну анали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начај фармацеута у савременом спор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916280"/>
            <a:ext cx="8362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рмацеут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врђен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тивностим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квир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ветске</a:t>
            </a:r>
            <a:r>
              <a:rPr b="0" i="1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антидопинг</a:t>
            </a:r>
            <a:r>
              <a:rPr b="0" i="1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агенције</a:t>
            </a:r>
            <a:r>
              <a:rPr b="0" i="1" lang="vi-VN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ст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дукаци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ис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новиј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форма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ов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Лист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супстанци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путем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Global DRO (eng. Global Drug Reference On Lin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мер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апа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д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тваре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радњ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апанск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идопин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генци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апанско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рмацеутск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руштв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2009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од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в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радњ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поставље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ши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бл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н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рно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пин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пин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в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п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жњо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 u="sng">
                <a:solidFill>
                  <a:srgbClr val="000000"/>
                </a:solidFill>
                <a:uFillTx/>
                <a:latin typeface="Calibri"/>
              </a:rPr>
              <a:t>„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допинг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из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зв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еп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жњом</a:t>
            </a:r>
            <a:r>
              <a:rPr b="0" lang="vi-VN" sz="2000" spc="-1" strike="noStrike" u="sng">
                <a:solidFill>
                  <a:srgbClr val="000000"/>
                </a:solidFill>
                <a:uFillTx/>
                <a:latin typeface="Calibri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шћење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еков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дај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цепт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ергетск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питак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зитивн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акциј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брање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лога фармацеута у суплементацији спорт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98864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знавање начина (рационалне) примене различитих група суплемената код спорт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знавање ефеката примене појединачних суплемената на организам спорт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зумевање механизама путем којих суплементи делује на органске систе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знававање нежељених дејстава суплеме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знавање здравствених ризика од употребе коришћења суплеме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нализа дијететских суплемената на присуство забрањених супстанци*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* </a:t>
            </a:r>
            <a:r>
              <a:rPr b="0" i="1" lang="sr-CS" sz="18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тклањање опасности од ненамерног доп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лога фармацеута у антидопинг контро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62828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нализа дијететских суплемената на присуство забрањених супстан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аћење и коришћење лекова у спорту (забрањене и дозвољене супстанц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знавање законске регулативе у области доп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знавање поступака антидопинг контр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знавање мера сузбијања и превенције доп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дукација спортиста (и рекреативаца) о употреби и злоупотреби лекова и лековити супстан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д у антидопинг лабораторијама и агенцијама (познавање најновијих техника за откривање забрањених супстанци у спорт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Ð ÐµÐ·ÑÐ»ÑÐ°Ñ ÑÐ»Ð¸ÐºÐ° Ð·Ð° antidoping kontrola"/>
          <p:cNvPicPr/>
          <p:nvPr/>
        </p:nvPicPr>
        <p:blipFill>
          <a:blip r:embed="rId1"/>
          <a:srcRect l="25704" t="58161" r="29696" b="2714"/>
          <a:stretch/>
        </p:blipFill>
        <p:spPr>
          <a:xfrm>
            <a:off x="3059280" y="5251320"/>
            <a:ext cx="33843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цес допинг контро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1773360"/>
            <a:ext cx="836280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оцес допинг контроле подразумева следеће главне корак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ланирање тестирања и дистрибуција плана тестир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икупљање узорака, рад са узорцима и лабораторијска анализа узора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азматрање изузетака услед примене супстанци у терапијске сврх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ипремање извештаја о резултатима лабораторијских испити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аслушавање спорт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нализа жалб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3348000" y="4365720"/>
            <a:ext cx="36990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ункционисање антидопинг лаборатор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06028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нтидопинг лабораторије служе за анализирање прикупљених биолошких узорака спортиста (на присуство недозвољених супстанци) и тумачење добијених резулта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орају бити акредитоване од стране 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World Antidoping Agency – W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именом одговарајућих инструменталних метода обезбеђују доказе да је код спортисте откривено присуство забрањене супстанце или њеног метаболита или маркера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(у урину или другим биолошким течностима откривена забрањена супстанца у концентрацији већој од дозвољен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Лабораторије морају спровести допинг контролу у складу са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Интернационалним стандрардом за лабораторије (</a:t>
            </a: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International Standard for Laborator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06:32:31Z</dcterms:created>
  <dc:creator>Ivan Srejovic</dc:creator>
  <dc:description/>
  <dc:language>en-US</dc:language>
  <cp:lastModifiedBy>ХХХ</cp:lastModifiedBy>
  <dcterms:modified xsi:type="dcterms:W3CDTF">2020-09-28T12:44:46Z</dcterms:modified>
  <cp:revision>116</cp:revision>
  <dc:subject/>
  <dc:title>ФИЗИОЛОГИЈА КРВИ</dc:title>
</cp:coreProperties>
</file>