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79D39-2D72-410D-971B-8A6B06758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A3011-518A-4BDE-98B3-830E0BA8923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26C8-A895-4819-A134-315776451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4EBF-C311-4FC1-A652-199B5333B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2582-CE29-4B8D-A597-1A07FE79D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E0CD-A834-44DB-8D36-99D8460E0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2D85-C584-44C0-9CD9-0605F8443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DB5D-2483-465A-9F11-FCE7E8FE6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526D-0316-4097-806F-00C1AAD69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4438-65AF-4184-BE68-99D42A97A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5A59-6994-45AC-8D0B-B2C0E89F9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04D5-54A4-4D90-A778-6D172BBA5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B013-812C-44A4-A0A0-D08A62CB1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7634-139A-4CC3-A49A-403B97747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34E24-E6A6-43D4-B0FF-F692D8A2C3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2294640" y="1197000"/>
            <a:ext cx="44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Интегрисане академске студије фарма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2124000" y="1773360"/>
            <a:ext cx="46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РЕДМЕТ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ПОРТСКА ФАРМ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395280" y="2924280"/>
            <a:ext cx="828216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. вежб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Улога и место фармацеута у спортском тиму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835280" y="333360"/>
            <a:ext cx="532908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Шта је неубичајено у овом посл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 Лондону 2012. године је било 100 волонтера фармацеута који су радили у 6 апотека у Олимпијском парк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ило је више од 10 општинских апотека које су служиле спортистима у пет регионалних градова (Манчестер, Глазгов, Њукасл, Ковентри и Кардиф) током олимпијских фудбалских догађај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тојало је више од 200 ординација за медицинске преглед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премање лекова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чамцима и другим пловилима (једрење и други водени спортови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санке за снег и хеликоптери (зимски спортови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5" descr="Mark Stuart standing in front of the 2012 Olympics logo"/>
          <p:cNvPicPr/>
          <p:nvPr/>
        </p:nvPicPr>
        <p:blipFill>
          <a:blip r:embed="rId1"/>
          <a:stretch/>
        </p:blipFill>
        <p:spPr>
          <a:xfrm>
            <a:off x="2700360" y="4292640"/>
            <a:ext cx="338616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Шта је најтеже у овом посл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Суочавање са спортистима који су позитивни на забрањене леков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ко се то догоди током игара, спортиста се обавештава чим се добију лабораторијски резулта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кон тога следи званично саслушање и дисциплински поступа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зитивни допинг тест утиче на професионалне каријере много људ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о је разочаравајућа вест за земљу, породицу и друге чланове тим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Још је трагичније када је спортиста позитиван на супстанцу коју је можда случајно узео - и даље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анкционисан према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WADA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авилим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Ð ÐµÐ·ÑÐ»ÑÐ°Ñ ÑÐ»Ð¸ÐºÐ° Ð·Ð° doping kontrola"/>
          <p:cNvPicPr/>
          <p:nvPr/>
        </p:nvPicPr>
        <p:blipFill>
          <a:blip r:embed="rId1"/>
          <a:stretch/>
        </p:blipFill>
        <p:spPr>
          <a:xfrm>
            <a:off x="826920" y="4221000"/>
            <a:ext cx="3348360" cy="237672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Ð ÐµÐ·ÑÐ»ÑÐ°Ñ ÑÐ»Ð¸ÐºÐ° Ð·Ð° doping kontrola"/>
          <p:cNvPicPr/>
          <p:nvPr/>
        </p:nvPicPr>
        <p:blipFill>
          <a:blip r:embed="rId2"/>
          <a:srcRect l="29939" t="15701" r="0" b="14088"/>
          <a:stretch/>
        </p:blipFill>
        <p:spPr>
          <a:xfrm>
            <a:off x="4427640" y="4221000"/>
            <a:ext cx="356400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Који су савети за фармацеуте који желе да се баве овим посло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лонтирање или рад у спортским клубовим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ествовање у раду АДАС-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ета домаћим и међународним конгресима из ове тематик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лонтирање на међународним спортским такмичењима је прави начин да се неко укључи у спортску фармацију и анти-допинг контрол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ноги фармацеути који су радили на неким Олимпијским играма настављају да раде и на следећим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Ð ÐµÐ·ÑÐ»ÑÐ°Ñ ÑÐ»Ð¸ÐºÐ° Ð·Ð° pharmacist in sport"/>
          <p:cNvPicPr/>
          <p:nvPr/>
        </p:nvPicPr>
        <p:blipFill>
          <a:blip r:embed="rId1"/>
          <a:stretch/>
        </p:blipFill>
        <p:spPr>
          <a:xfrm>
            <a:off x="1636560" y="4292640"/>
            <a:ext cx="572004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68360" y="220464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3600" spc="-1" strike="noStrike">
                <a:solidFill>
                  <a:srgbClr val="000000"/>
                </a:solidFill>
                <a:latin typeface="Calibri"/>
              </a:rPr>
              <a:t>ЕДУКАЦИЈА ЈЕ КЉУЧ УСПЕХА И ЗА ФАРМАЦЕУТЕ И ЗА СПОРТИСТЕ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Ð ÐµÐ·ÑÐ»ÑÐ°Ñ ÑÐ»Ð¸ÐºÐ° Ð·Ð° EDUCATION IS A KEY OF SUCCESS"/>
          <p:cNvPicPr/>
          <p:nvPr/>
        </p:nvPicPr>
        <p:blipFill>
          <a:blip r:embed="rId1"/>
          <a:stretch/>
        </p:blipFill>
        <p:spPr>
          <a:xfrm>
            <a:off x="2843280" y="3429000"/>
            <a:ext cx="345924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Генералнe улогe фармацеута у спорт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8360" y="1988640"/>
            <a:ext cx="83628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аветодавна и едукативна у превенцији допинг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Рад у контролним лабораторија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авилно дизајнирање дијет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имена леко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набдевање лекови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аћење и анализа утицаја лекова на биохемијске и хематолошке параметер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324000" y="5516640"/>
            <a:ext cx="835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*Рад у контролним лабораторијама: анализа материјала – сакупљањ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чување и припрема узорака, скрининг тестови, методе за квантитативну и квалитативну анализ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СТО ФАРМАЦЕУТА У СПОРТСКО-МЕДИЦИНСКОМ ТИМУ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8360" y="169992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ђење и контрола фармаколошке терапије спортис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нтрола и примена суплемената код спортис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армаколошке мере превенције повре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штита спортиста од злоупотребе лекова и лековитих супстанц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ере антидопинг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начај фармацеута у савременом спорт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8360" y="1267920"/>
            <a:ext cx="836280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ачн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ар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dr Audrey Kinahan и Brendan Rochford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ласн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ици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потек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Galway’s University Late Night Pharmacy)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рско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н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ош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2001.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годин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својил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град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вебсајт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Eirpharm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базо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датк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ј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портистим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уж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нформаци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озвољени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брањеним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лековима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порт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о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единствени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ервис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својен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рског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портск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авез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(eng. Irish Sports Counci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вај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ајт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око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2007.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годин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ма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иш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300.000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се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бог великог допринос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r Audrey Kinahan је прикључена WA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Ð ÐµÐ·ÑÐ»ÑÐ°Ñ ÑÐ»Ð¸ÐºÐ° Ð·Ð° dr Audrey Kinahan Ð¸ Brendan Rochford"/>
          <p:cNvPicPr/>
          <p:nvPr/>
        </p:nvPicPr>
        <p:blipFill>
          <a:blip r:embed="rId1"/>
          <a:stretch/>
        </p:blipFill>
        <p:spPr>
          <a:xfrm>
            <a:off x="3059280" y="4365720"/>
            <a:ext cx="233820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Како је бити ф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армацеут на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лимпијским играма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приказ случај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</a:t>
            </a:r>
            <a:br>
              <a:rPr sz="2800"/>
            </a:br>
            <a:r>
              <a:rPr b="0" i="1" lang="sr-RS" sz="2800" spc="-1" strike="noStrike">
                <a:solidFill>
                  <a:srgbClr val="000000"/>
                </a:solidFill>
                <a:latin typeface="Calibri"/>
              </a:rPr>
              <a:t>искуство једног фармацеу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сновни подаци фармацеу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Марк Стјуарт (Велика Британиј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Фармацеут у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МОК-у (International Olympic Committe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Европском Олимпијском Комитету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European Olympic Committe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Светској Атнидопинг агенциј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World Antidoping Agenc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Mark Stuart is the pharmacist for the International Olympic Committee (IOC) Medical Commission and European Olympic Committees (EOC) Medical and Anti-Doping Commission."/>
          <p:cNvPicPr/>
          <p:nvPr/>
        </p:nvPicPr>
        <p:blipFill>
          <a:blip r:embed="rId1"/>
          <a:stretch/>
        </p:blipFill>
        <p:spPr>
          <a:xfrm>
            <a:off x="4427640" y="3357720"/>
            <a:ext cx="4118040" cy="29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арије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Након завршених студија радио у агенцији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за злоупотребу лекова у спорту (Велика Британиј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2000. Сиднеј Летње Олимпијске игре – фармацеут и антидопинг контро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2004. Атина Летње Олимпијске игре – фармацеут и антидопинг контро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2006. Турин Зимске Олимпијске игре – фармацеут и антидопинг контрол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2008. Пекинг Летње Олимпијске игре – фармацеут и антидопинг контро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2012. Лондон Летње Олимпијске игре – управник локалне фармацеутске служб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2014. Сочи Зимске Олимпијске игре – представник МОК-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2016. Рио де Жанеиро Летње Олимпијске игре – представник МОК-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Шта је најинтересантније у овом послу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спостављање бескомпромисних апотекарских услуга за спортске догађаје у разним земљам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ења о локалним законима и ланцима снабдевања у оквиру којих се могу дизајнирати фармацеутске услуг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армацеутске уредбе и апотекарска пракса се у великој мери разликују од земље до земље као и од такмичења до такмичењ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пример: у Русији су закони и прописи о лековима различити од оних у Великој Британији, а увозни и царински захтеви за превоз лекова су такође различи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знавање локалних начела фармаколошког збрињавања ургентних ситуациј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оја су задужења фармацеута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на Олимпијским играм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дабир лекова (преко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00 леков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изајнирање просторија за допинг контрол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спостављање начела за рад апотекарске установ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дукација фармацеута и других здравствених радника о употреби и злоупотреби лекова у спорт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дгледање и спровођење допинг тестирања (усаглашавање са правилима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WAD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Контрола коришћења лекова са листе Изузећа за терапијску употребу (ТУЕ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ета Рију 2015. године у циљу припрема за све наведене задатк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5" descr="Mark Stuart standing in front of the 2012 Olympics logo"/>
          <p:cNvPicPr/>
          <p:nvPr/>
        </p:nvPicPr>
        <p:blipFill>
          <a:blip r:embed="rId1"/>
          <a:stretch/>
        </p:blipFill>
        <p:spPr>
          <a:xfrm>
            <a:off x="2771640" y="4437000"/>
            <a:ext cx="3386160" cy="22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2T07:24:21Z</dcterms:created>
  <dc:creator>Vlada Jakovljevic</dc:creator>
  <dc:description/>
  <dc:language>en-US</dc:language>
  <cp:lastModifiedBy>х</cp:lastModifiedBy>
  <dcterms:modified xsi:type="dcterms:W3CDTF">2018-09-24T07:18:23Z</dcterms:modified>
  <cp:revision>42</cp:revision>
  <dc:subject/>
  <dc:title>Демијелинизационе болести Мијастенија гравис</dc:title>
</cp:coreProperties>
</file>